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16.jpeg" ContentType="image/jpeg"/>
  <Override PartName="/ppt/media/image15.wmf" ContentType="image/x-wmf"/>
  <Override PartName="/ppt/media/image14.png" ContentType="image/pn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7.jpeg" ContentType="image/jpeg"/>
  <Override PartName="/ppt/media/image5.wmf" ContentType="image/x-wmf"/>
  <Override PartName="/ppt/media/image6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4EEA4-6793-4BF6-885A-8EE633249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0C33-4B58-4513-9124-F92D04333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5F92-122C-4377-9865-9136C93874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0AE07-7659-4002-AF6B-BB2C94DAC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86F2A-3C19-4319-B60D-D0D3A6ECE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5E9AD-4C78-4061-B04E-64EE3F6D7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A5923-EB11-44EA-9FF3-1A8339F82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95D57-A64F-4275-9E4C-72C64D751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05B0-9795-43F2-8339-82EE6C7D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C9AA6-02F6-47CF-9842-7790C423C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76B04-9CE0-4BA3-BAA1-A10B6A1D9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23E1-BC41-43E6-A7F1-49FE957FA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5EDC-8246-47D2-B10C-232CCBCD9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B17A-4BFE-4945-AF80-39EAA1060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27BED-6875-4A79-9B3F-3BEAA9394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E8AE-A975-4B1E-A440-04E247068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8FBCB-54EB-4D22-A876-35034CFB68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740F51-E407-4EC3-BC20-E2B0A3F4C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E96C9-560C-4EC6-B8C3-48A19434A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1C547-2D9E-45A0-B696-B931FEFEC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9FE73F-B32D-437C-8800-24A8E1243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207B44-4416-4D44-B853-E8DF109EC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1B3A-B4DA-405E-8BBD-0FE4DB9B5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645171-0865-44BA-A82C-6A7A7EC30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0B58D-CDC4-447F-805B-FBDB67F4A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41D2E-7DF8-4F28-9B7F-7C1667352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487A08-76E5-4CAC-9B74-087FB7FA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C2A10-5C6E-42E7-8154-9CD66A45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2061E-0390-447E-B1AB-4E1F05BE8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712B1-5746-4FDB-9880-166AEB23E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751919-55C2-4DB2-B8E5-D0EF5F96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2515E7-36F8-4207-AAE3-72A3333CC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9585DF-4610-4140-8B94-BABAFE527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6E3-DD86-4D5D-AFFC-353D74E9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8BA6BA-D3CE-4BB0-94D2-B94AD302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2608CB-EA8F-4D8C-AD6C-020C52FC63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EEC579-4D9C-4333-81BB-EC08966CD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FCE37-6230-42C1-BD1E-BF4F18292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B162BF-5F46-454F-A48B-4F564335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908EE-A1EA-4764-B0B0-5E39EA92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08EE9-FD70-43B1-B182-C0032F96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17597-A8BC-464B-991F-D942734DD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0301AF-AAAE-4B7C-8DF1-10342E97A0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CD94-1CED-43BB-90F5-DA4A9632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E210-6F64-4FFA-9588-5589F41B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BE0B-371E-4E66-A035-7A3B2A292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AD424-A8C9-44AC-A5CB-B767048D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60B1-2773-4FB7-8044-95908B301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3C6BE-78C4-4227-95C6-DBA810F3272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CE035-88F8-42C2-BDC9-3F2C09F99F92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948360" y="5083200"/>
            <a:ext cx="2195640" cy="177480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160640" cy="2340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6179F-D4C4-4AE6-B688-9B3C48D3E2A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08BC-0E41-4E43-A8D3-BFB5E25DD45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s.google.com/imgres?imgurl=http://www.sompo-japan.co.jp/travel/images/trav03.gif&amp;imgrefurl=http://www.sompo-japan.co.jp/travel/trav005.html&amp;h=171&amp;w=200&amp;sz=6&amp;tbnid=o5zIk1UZvlIJ:&amp;tbnh=84&amp;tbnw=99&amp;hl=zh-CN&amp;start=44&amp;prev=/images%3Fq%3D%25E7%2596%25BE%25E7%2597%2585%26start%3D40%26svnum%3D10%26hl%3Dzh-CN%26lr%3D%26newwindow%3D1%26sa%3DN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mage.baidu.com/i?ct=503316480&amp;z=131720550&amp;tn=baiduimagedetail&amp;word=&#28508;&#27700;&amp;in=31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ebigchina.net/ebcps/2/md/1376492.html" TargetMode="External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toufa.cn/special/14/2/2515035887.htm" TargetMode="External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chimes.wav" TargetMode="External"/><Relationship Id="rId2" Type="http://schemas.openxmlformats.org/officeDocument/2006/relationships/slideLayout" Target="../slideLayouts/slideLayout2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who.int/en/" TargetMode="Externa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</a:rPr>
              <a:t>病理生理学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2380680" y="2708280"/>
            <a:ext cx="43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pathophysiolog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9280" y="259920"/>
            <a:ext cx="8001000" cy="95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亚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sub-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1844640"/>
            <a:ext cx="85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身心处于健康与疾病之间的健康低质量状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"/>
          <p:cNvGraphicFramePr/>
          <p:nvPr/>
        </p:nvGraphicFramePr>
        <p:xfrm>
          <a:off x="2411280" y="2781360"/>
          <a:ext cx="4033800" cy="3332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411280" y="2781360"/>
                    <a:ext cx="4033800" cy="33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disease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0728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在一定病因作用下，自稳调节紊乱导致的异常生命活动过程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症状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ymptom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指疾病所引起的患者主观感觉的异常。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5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体征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(sig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  <a:ea typeface="楷体_GB2312"/>
              </a:rPr>
              <a:t>通过各种检查方法在患病机体发现的客观存在的异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病理过程（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pathological process</a:t>
            </a:r>
            <a:r>
              <a:rPr b="1" lang="zh-CN" sz="3400" spc="-1" strike="noStrike">
                <a:solidFill>
                  <a:srgbClr val="000000"/>
                </a:solidFill>
                <a:latin typeface="Verdana"/>
              </a:rPr>
              <a:t>）</a:t>
            </a:r>
            <a:r>
              <a:rPr b="0" lang="zh-CN" sz="3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2060640"/>
            <a:ext cx="800100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5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多种疾病中出现的共同的成套的功能、代谢和结构变化。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241280" y="515880"/>
            <a:ext cx="7113600" cy="10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黑体"/>
                <a:ea typeface="黑体"/>
              </a:rPr>
              <a:t>疾病与病理过程的区别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94920" y="2226960"/>
            <a:ext cx="828036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疾病可包含几个病理过程，故病理过程是疾病的组成成分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一个病理过程可以由不同原因引起，而疾病由特定原因引起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pull dir="lu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826560" y="990720"/>
            <a:ext cx="7921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三节 病因学概论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over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"/>
          <p:cNvSpPr/>
          <p:nvPr/>
        </p:nvSpPr>
        <p:spPr>
          <a:xfrm>
            <a:off x="468360" y="2708280"/>
            <a:ext cx="813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372360" y="4375080"/>
            <a:ext cx="195264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611280" y="4437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健康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64000" y="4437000"/>
            <a:ext cx="128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病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724360" y="4437000"/>
            <a:ext cx="2173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患病机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737880" y="3213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不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09520" y="5661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利条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3203640" y="4508640"/>
            <a:ext cx="2442960" cy="457200"/>
          </a:xfrm>
          <a:custGeom>
            <a:avLst/>
            <a:gdLst>
              <a:gd name="textAreaLeft" fmla="*/ 0 w 2442960"/>
              <a:gd name="textAreaRight" fmla="*/ 2443320 w 2442960"/>
              <a:gd name="textAreaTop" fmla="*/ 360 h 457200"/>
              <a:gd name="textAreaBottom" fmla="*/ 457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95640" y="5013360"/>
            <a:ext cx="228600" cy="609480"/>
          </a:xfrm>
          <a:prstGeom prst="up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995640" y="3860640"/>
            <a:ext cx="1452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+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067280" y="5229360"/>
            <a:ext cx="22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 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427640" y="55166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386064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434200" y="321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（诱因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42960" y="920880"/>
            <a:ext cx="781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病因学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Etiology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443840" y="1989000"/>
            <a:ext cx="35460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研究疾病发生的原因和条件及其作用规律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疾病发生的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病因 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isease cause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，是指引起某一疾病必不可少的、决定疾病特异性的致病因素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物理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暴力、极端的温度、极端的大气压、噪声、电流、紫外线、电离辐射等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292720" y="2492280"/>
            <a:ext cx="338472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640" y="1537920"/>
            <a:ext cx="4292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．化学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强酸、强碱、毒物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5651640" y="1844640"/>
            <a:ext cx="273204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10526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Verdana"/>
              </a:rPr>
              <a:t>第一章   绪  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325520" y="2637000"/>
            <a:ext cx="6683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(introduction to pathophysiolog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1161720" y="4149360"/>
            <a:ext cx="701028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唐朝枢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66280" y="191592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物性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病原微生物和寄生虫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特点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有一定的入侵门户和定位；病原体和机体相互作用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5364000" y="1989000"/>
            <a:ext cx="280692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0000"/>
                </a:solidFill>
                <a:latin typeface="Verdana"/>
              </a:rPr>
              <a:t>鸡瘟病毒对人无致病作用？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2050920" y="1996920"/>
            <a:ext cx="410544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11000" y="1537920"/>
            <a:ext cx="717372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营养性因素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机体必需物质的缺乏或过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8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796000" y="4098960"/>
            <a:ext cx="2657520" cy="19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一）疾病发生的外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66640" y="2133360"/>
            <a:ext cx="45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精神、心理和社会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古罗马医生盖仑（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Galen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）在其著作中就叙述了关于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精神卫生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的问题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5076720" y="2637000"/>
            <a:ext cx="37432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3924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1.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遗传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基因突变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楷体_GB2312"/>
              </a:rPr>
              <a:t>染色体畸变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356000" y="2565360"/>
            <a:ext cx="375120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66280" y="1898280"/>
            <a:ext cx="8109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Arial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先天性因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损害正常胎儿发育的因素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2"/>
          <a:stretch/>
        </p:blipFill>
        <p:spPr>
          <a:xfrm>
            <a:off x="7077240" y="3645000"/>
            <a:ext cx="1326960" cy="229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生的内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3772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．免疫性因素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超敏反应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hypersensitivity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自身免疫性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autoimmune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免疫缺陷病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immunodeficiency disease</a:t>
            </a:r>
            <a:r>
              <a:rPr b="0" lang="zh-CN" sz="2200" spc="-1" strike="noStrike">
                <a:solidFill>
                  <a:srgbClr val="000000"/>
                </a:solidFill>
                <a:latin typeface="Verdana"/>
              </a:rPr>
              <a:t>）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疾病发生的条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9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120000"/>
              </a:lnSpc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条件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(condition)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是指在疾病的病因作用于机体的前提下，能够促进或阻碍疾病发生发展的各种因素。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1960200" y="4384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条件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700360" y="3860640"/>
            <a:ext cx="576360" cy="1584360"/>
          </a:xfrm>
          <a:custGeom>
            <a:avLst/>
            <a:gdLst>
              <a:gd name="textAreaLeft" fmla="*/ 368280 w 576360"/>
              <a:gd name="textAreaRight" fmla="*/ 576720 w 57636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63420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内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686400" y="51037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在因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条件对疾病的影响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66280" y="1752120"/>
            <a:ext cx="8001000" cy="11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①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抑制疾病发生发展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571680" indent="-5716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②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促进疾病发生发展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826920" y="3500280"/>
            <a:ext cx="720108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能够加强某一疾病原因的作用，从而促进疾病发生的因素，称之为诱因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(precipitating factor)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四节 发病学概论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"/>
          <p:cNvSpPr/>
          <p:nvPr/>
        </p:nvSpPr>
        <p:spPr>
          <a:xfrm>
            <a:off x="755640" y="3736800"/>
            <a:ext cx="7416720" cy="520560"/>
          </a:xfrm>
          <a:prstGeom prst="rect">
            <a:avLst/>
          </a:prstGeom>
          <a:noFill/>
          <a:ln cap="sq"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发病学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pathogenesis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是研究疾病发生、发展及转归的普遍规律和机制的科学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84360" y="1484280"/>
            <a:ext cx="82072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一节　病理生理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内容及其学科性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98984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一、疾病发生、发展的一般规律及机制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机体的屏障防御作用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外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内部屏障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白细胞、组织细胞、淋巴结、肝、肺、肾、脾、血脑屏障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blood-brain barrier)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和胎盘屏障 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(placenta barrier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一）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疾病发生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致病因素的蔓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组织性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神经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体液蔓延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自稳调节的紊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自我调节机制破坏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12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原始病因使机体某一部分发生损害后，这种损害又可以作为发病学原因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（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pathogenetic cause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  <a:ea typeface="Arial"/>
              </a:rPr>
              <a:t>）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而引起另一些变化，后者又可作为新的发病学原因而引起新的变化。如此，原因和结果交替不已，使疾病过程不断发展。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200400" y="609480"/>
            <a:ext cx="13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爆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1143000"/>
            <a:ext cx="0" cy="30492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95480" y="1523880"/>
            <a:ext cx="239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组织受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733920" y="2057400"/>
            <a:ext cx="0" cy="38088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rId1"/>
          </p:cNvPr>
          <p:cNvSpPr/>
          <p:nvPr/>
        </p:nvSpPr>
        <p:spPr>
          <a:xfrm>
            <a:off x="3200400" y="2514600"/>
            <a:ext cx="12272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出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7600" y="3048120"/>
            <a:ext cx="0" cy="30456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057400" y="3505320"/>
            <a:ext cx="38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有效循环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411480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916360" y="4648320"/>
            <a:ext cx="195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血压下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657600" y="5181480"/>
            <a:ext cx="0" cy="457200"/>
          </a:xfrm>
          <a:prstGeom prst="line">
            <a:avLst/>
          </a:prstGeom>
          <a:ln cap="sq"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666880" y="5791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心血量减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58320" y="68580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495680" y="1676520"/>
            <a:ext cx="1784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1       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009999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4495680" y="2438280"/>
            <a:ext cx="17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2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648320" y="3429000"/>
            <a:ext cx="186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果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3      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因</a:t>
            </a:r>
            <a:r>
              <a:rPr b="1" lang="zh-CN" sz="2400" spc="-1" strike="noStrike">
                <a:solidFill>
                  <a:srgbClr val="9900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562720" y="401760"/>
            <a:ext cx="253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原始病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(initial caus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1447920"/>
            <a:ext cx="685800" cy="4495680"/>
          </a:xfrm>
          <a:custGeom>
            <a:avLst/>
            <a:gdLst>
              <a:gd name="textAreaLeft" fmla="*/ 0 w 685800"/>
              <a:gd name="textAreaRight" fmla="*/ 247680 w 685800"/>
              <a:gd name="textAreaTop" fmla="*/ 117000 h 4495680"/>
              <a:gd name="textAreaBottom" fmla="*/ 4378680 h 449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" y="236232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主导环节（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leading link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372720" y="2666880"/>
            <a:ext cx="27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发病学原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pathogenetic cause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</a:rPr>
              <a:t>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过程中的因果转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4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因果转化的发展方向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1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恶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vicious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 algn="just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2)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良性循环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(benign cycl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二）疾病发展的一般规律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36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957240" indent="-490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疾病时的损伤和抗损伤反应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lnSpc>
                <a:spcPct val="7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损伤和抗损伤反应间并无严格界限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57240" indent="0">
              <a:lnSpc>
                <a:spcPct val="3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矛盾的两个方面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3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  <a:ea typeface="楷体_GB2312"/>
              </a:rPr>
              <a:t>动态变化过程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0">
              <a:lnSpc>
                <a:spcPct val="40000"/>
              </a:lnSpc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34160" indent="-43344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代偿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compensation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和适应反应（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adaptive response</a:t>
            </a:r>
            <a:r>
              <a:rPr b="0" lang="zh-CN" sz="2300" spc="-1" strike="noStrike">
                <a:solidFill>
                  <a:srgbClr val="000000"/>
                </a:solidFill>
                <a:latin typeface="Verdana"/>
              </a:rPr>
              <a:t>）是机体抗损伤反应的重要方面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3" name=""/>
          <p:cNvGrpSpPr/>
          <p:nvPr/>
        </p:nvGrpSpPr>
        <p:grpSpPr>
          <a:xfrm>
            <a:off x="821520" y="620640"/>
            <a:ext cx="7383960" cy="6082560"/>
            <a:chOff x="821520" y="620640"/>
            <a:chExt cx="7383960" cy="6082560"/>
          </a:xfrm>
        </p:grpSpPr>
        <p:sp>
          <p:nvSpPr>
            <p:cNvPr id="294" name=""/>
            <p:cNvSpPr/>
            <p:nvPr/>
          </p:nvSpPr>
          <p:spPr>
            <a:xfrm rot="6074400">
              <a:off x="7179840" y="3586320"/>
              <a:ext cx="1000080" cy="87264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808000"/>
            </a:solidFill>
            <a:ln w="9360">
              <a:solidFill>
                <a:srgbClr val="66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95" name=""/>
            <p:cNvGrpSpPr/>
            <p:nvPr/>
          </p:nvGrpSpPr>
          <p:grpSpPr>
            <a:xfrm>
              <a:off x="821520" y="620640"/>
              <a:ext cx="7102080" cy="6082560"/>
              <a:chOff x="821520" y="620640"/>
              <a:chExt cx="7102080" cy="6082560"/>
            </a:xfrm>
          </p:grpSpPr>
          <p:sp>
            <p:nvSpPr>
              <p:cNvPr id="296" name=""/>
              <p:cNvSpPr/>
              <p:nvPr/>
            </p:nvSpPr>
            <p:spPr>
              <a:xfrm>
                <a:off x="7437960" y="3836880"/>
                <a:ext cx="485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000" spc="-1" strike="noStrike">
                    <a:solidFill>
                      <a:srgbClr val="000000"/>
                    </a:solidFill>
                    <a:latin typeface="Times New Roman"/>
                  </a:rPr>
                  <a:t>异物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7" name=""/>
              <p:cNvGrpSpPr/>
              <p:nvPr/>
            </p:nvGrpSpPr>
            <p:grpSpPr>
              <a:xfrm>
                <a:off x="821520" y="620640"/>
                <a:ext cx="6822720" cy="6082560"/>
                <a:chOff x="821520" y="620640"/>
                <a:chExt cx="6822720" cy="608256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1778760" y="1246320"/>
                  <a:ext cx="5474520" cy="4647960"/>
                </a:xfrm>
                <a:prstGeom prst="donut">
                  <a:avLst>
                    <a:gd name="adj" fmla="val 25000"/>
                  </a:avLst>
                </a:prstGeom>
                <a:solidFill>
                  <a:srgbClr val="ffcc66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924360" y="620640"/>
                  <a:ext cx="1264320" cy="590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 rot="2336400">
                  <a:off x="6224760" y="1333440"/>
                  <a:ext cx="132732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 rot="13183200">
                  <a:off x="2196720" y="5554440"/>
                  <a:ext cx="1485720" cy="7617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 rot="14810400">
                  <a:off x="977040" y="4107600"/>
                  <a:ext cx="997200" cy="96696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 rot="8521200">
                  <a:off x="5728680" y="5389200"/>
                  <a:ext cx="126108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 rot="19479000">
                  <a:off x="1929240" y="1147680"/>
                  <a:ext cx="1031400" cy="762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 rot="16834800">
                  <a:off x="888840" y="2464560"/>
                  <a:ext cx="990720" cy="9601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808000"/>
                </a:solidFill>
                <a:ln w="9360">
                  <a:solidFill>
                    <a:srgbClr val="66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6" name=""/>
                <p:cNvSpPr/>
                <p:nvPr/>
              </p:nvSpPr>
              <p:spPr>
                <a:xfrm>
                  <a:off x="3859200" y="1627200"/>
                  <a:ext cx="14000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单核吞噬细胞系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7" name=""/>
                <p:cNvSpPr/>
                <p:nvPr/>
              </p:nvSpPr>
              <p:spPr>
                <a:xfrm>
                  <a:off x="5847120" y="2541600"/>
                  <a:ext cx="9428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物理性屏障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6016320" y="390996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状态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9" name=""/>
                <p:cNvSpPr/>
                <p:nvPr/>
              </p:nvSpPr>
              <p:spPr>
                <a:xfrm>
                  <a:off x="4350600" y="5129280"/>
                  <a:ext cx="79020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免疫反应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0" name=""/>
                <p:cNvSpPr/>
                <p:nvPr/>
              </p:nvSpPr>
              <p:spPr>
                <a:xfrm>
                  <a:off x="2835720" y="459900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炎症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2280600" y="3608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凝血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>
                  <a:off x="2248560" y="2465280"/>
                  <a:ext cx="10951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化学解毒作用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4342680" y="69696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射线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6616800" y="14749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微生物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6060600" y="55897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应激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6" name=""/>
                <p:cNvSpPr/>
                <p:nvPr/>
              </p:nvSpPr>
              <p:spPr>
                <a:xfrm>
                  <a:off x="2570400" y="581832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热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1141560" y="43704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畸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983160" y="2770200"/>
                  <a:ext cx="6379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致癌原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201040" y="1322280"/>
                  <a:ext cx="485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000" spc="-1" strike="noStrike">
                      <a:solidFill>
                        <a:srgbClr val="000000"/>
                      </a:solidFill>
                      <a:latin typeface="Times New Roman"/>
                    </a:rPr>
                    <a:t>创伤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pic>
              <p:nvPicPr>
                <p:cNvPr id="320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3921120" y="2625840"/>
                  <a:ext cx="1269360" cy="197316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（三）疾病发生的基本机制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84000" y="1915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神经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体液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3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细胞机制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4122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  <a:ea typeface="楷体_GB2312"/>
              </a:rPr>
              <a:t>分子机制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研究对象及任务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39640" y="3357720"/>
            <a:ext cx="2556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疾病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（患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</a:rPr>
              <a:t>病机体</a:t>
            </a:r>
            <a:r>
              <a:rPr b="0" lang="zh-CN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黑体"/>
              </a:rPr>
              <a:t>）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2771640" y="328464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61240" y="3068640"/>
            <a:ext cx="23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病人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atient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407040" y="4149720"/>
            <a:ext cx="369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疾病模型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nimal model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4076640"/>
            <a:ext cx="22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（机能代谢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11280" y="1989000"/>
            <a:ext cx="489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研究对象为疾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155960" y="5373720"/>
            <a:ext cx="428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任务为揭示机制（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mechanism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755640" y="692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二、疾病转归的一般规律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8360" y="3429000"/>
            <a:ext cx="280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疾病的转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916360" y="2470320"/>
            <a:ext cx="24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059280" y="4437000"/>
            <a:ext cx="163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死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859280" y="1916280"/>
            <a:ext cx="314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788000" y="292428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完全康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627280" y="2852640"/>
            <a:ext cx="228600" cy="1828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284720" y="2276640"/>
            <a:ext cx="299880" cy="1066680"/>
          </a:xfrm>
          <a:custGeom>
            <a:avLst/>
            <a:gdLst>
              <a:gd name="textAreaLeft" fmla="*/ 191520 w 299880"/>
              <a:gd name="textAreaRight" fmla="*/ 300240 w 299880"/>
              <a:gd name="textAreaTop" fmla="*/ 27720 h 1066680"/>
              <a:gd name="textAreaBottom" fmla="*/ 1038960 h 1066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414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) 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恢复健康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4000" y="2349000"/>
            <a:ext cx="800100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康复 （痊愈 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不完全康复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755640" y="836640"/>
            <a:ext cx="5688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（二）死亡（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五节   死 亡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4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死亡的概念和原因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机体作为一个整体的功能的永久停止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"/>
          <p:cNvSpPr/>
          <p:nvPr/>
        </p:nvSpPr>
        <p:spPr>
          <a:xfrm>
            <a:off x="900000" y="4005360"/>
            <a:ext cx="136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619280" y="3500280"/>
            <a:ext cx="358920" cy="1295640"/>
          </a:xfrm>
          <a:custGeom>
            <a:avLst/>
            <a:gdLst>
              <a:gd name="textAreaLeft" fmla="*/ 229320 w 358920"/>
              <a:gd name="textAreaRight" fmla="*/ 359280 w 358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200" y="3284640"/>
            <a:ext cx="229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生理性死亡（老死亡，衰老死亡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79640" y="47242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病理性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死亡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276720" y="4365720"/>
            <a:ext cx="360360" cy="1224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708360" y="422100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意外所引起急性死亡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708360" y="4797360"/>
            <a:ext cx="30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重要器官不可恢复性损伤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708360" y="537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慢性消耗性疾病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传统的死亡概念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9280" y="2060640"/>
            <a:ext cx="8001000" cy="35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濒死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5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临床死亡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3.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生物学死亡期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脑死亡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10920" y="2133720"/>
            <a:ext cx="8001000" cy="30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脑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是指包括脑干在内的全脑功能丧失的不可逆转的状态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多数学者以脑干死亡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brain stem death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确定为脑死亡。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脑死亡的判断标准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68000" y="1773000"/>
            <a:ext cx="504036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持续深昏迷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呼吸停止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无自主运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脑干反射消失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大脑电沉默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楷体"/>
                <a:ea typeface="楷体"/>
              </a:rPr>
              <a:t>(electrocerebral silence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楷体"/>
                <a:ea typeface="楷体"/>
              </a:rPr>
              <a:t>其他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2"/>
          <a:stretch/>
        </p:blipFill>
        <p:spPr>
          <a:xfrm>
            <a:off x="5219640" y="2781360"/>
            <a:ext cx="3924360" cy="276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及时判断脑死亡的意义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566280" y="196992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准确地判断脑死亡利于判断复苏的预后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死体材料的利用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确定终止复苏抢救的界线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二、病理生理学的教学内容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9640" y="2060280"/>
            <a:ext cx="8182080" cy="369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疾病概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ntroduction to disease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病理过程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pathological process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系统器官病理生理学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0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systemic pathophysiology</a:t>
            </a: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）                          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三、病理生理学的学科性质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0920" y="2133360"/>
            <a:ext cx="8001000" cy="32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综合性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桥梁学科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Verdana"/>
              </a:rPr>
              <a:t>实践性较强的学科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1239840" y="3433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四、病理生理学的研究方法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66280" y="1988640"/>
            <a:ext cx="8001000" cy="403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动物实验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animal experiment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细胞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分子生物学实验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</a:rPr>
              <a:t>临床研究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clinical observation</a:t>
            </a:r>
            <a:r>
              <a:rPr b="0" lang="zh-CN" sz="30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600" spc="-1" strike="noStrike">
                <a:solidFill>
                  <a:srgbClr val="000000"/>
                </a:solidFill>
                <a:latin typeface="宋体"/>
              </a:rPr>
              <a:t>不损害病人”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</a:rPr>
              <a:t>第二节 健康和疾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一、健康（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health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）的概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421000"/>
            <a:ext cx="867564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健康不仅没有疾病和病痛，而且在躯体上、心理上和社会上处于完好状态。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身心健康”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WHO logo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4643280" y="5373720"/>
            <a:ext cx="401184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7T15:08:06Z</dcterms:created>
  <dc:creator>aa</dc:creator>
  <dc:description/>
  <dc:language>en-US</dc:language>
  <cp:lastModifiedBy>hzg</cp:lastModifiedBy>
  <dcterms:modified xsi:type="dcterms:W3CDTF">2014-04-22T02:29:22Z</dcterms:modified>
  <cp:revision>210</cp:revision>
  <dc:subject/>
  <dc:title>病理生理学                  (pathophysiology) </dc:title>
</cp:coreProperties>
</file>